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whoosh.wav" ContentType="audio/x-wav"/>
  <Override PartName="/ppt/media/image15.wmf" ContentType="image/x-wmf"/>
  <Override PartName="/ppt/media/image7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5.gif" ContentType="image/gif"/>
  <Override PartName="/ppt/media/image16.wmf" ContentType="image/x-wm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A49C-4844-4BD5-9DB2-659AC4D2C2E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n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ersu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Ent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e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mana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ction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D413-95A1-49CB-8079-C1877A700AD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hould look like point form notes that the audience would be copy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E717-C0F1-44EF-B12E-66FAB8B3140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lines, 6 words per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65EB-321C-4DE8-A277-BEB72378037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524-EFA9-48EC-9550-367343A7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8D9-78B0-4EBB-8A84-545D5EAC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C0247-5AC0-4E8B-AC29-3DC92836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812C0-91EE-4F7B-8DDC-F76E8E24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C35F8-7605-444B-9AD5-662F16AE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F7D6C-5DA8-4328-8D84-4ABD25DE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99260-57ED-4259-9740-10E6449B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82E39-D654-4534-A504-8E0E8C4F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B0A02-D8A8-4095-98D2-77DAD6B6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65348-1238-4CD0-B09B-B72F08B5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1458C-2ACF-4799-A182-ABEF6453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2F155-1A25-4F71-8F40-82736ECB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C05-B594-4700-B5FC-5376533E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710CC-E012-406B-9D2B-BC2E8627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9CD2D-3EF2-4762-9396-18AF4CE5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D2903-D4FE-4825-A559-B50A0ADD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5A0CF-FC26-4D10-9081-9B93231F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17239-7783-430A-A986-B5735C5A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D4CD1-92C5-40F9-AB77-3CAC336B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E8C4C-98AF-4683-AE4E-13883C96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DA640-DD5B-4841-822A-363B2985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11CBF-F708-423B-88AB-BFD98DAA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A4186-C8AE-4871-AC16-17ACCE99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B48-E028-4046-8898-C8A97231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F98EF-409A-4D14-9B10-A7378E16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70665D-DE37-4B34-BA7F-7609B239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A93729-3F39-44E8-9196-05EACE01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AA2F7A-C7BC-4317-8396-B9C22416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7AC2C3-6574-4C38-A865-9A17885C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0BD7D7-AD08-4362-BDD8-FE5B2D9D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D9EC33-E367-4B11-84E8-71027059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24FBBB-87E1-4433-89B1-541F5B46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7EDC63-0AC4-47FF-9E04-FC0C0789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23C0D7-B518-4486-B548-2E85EA87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82A999-B370-4FD8-B909-0A94046B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6542A9-B986-4E6E-9B8A-F121255A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0C669E-4FDA-43BC-A0BB-662843EB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99E168-E66C-4086-88FA-6BD165E2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40F8F-7E66-4CCC-84A4-DA57FDA1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D1C1F-B6F3-4323-9D0F-0C5E7B59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4AC45-30C7-4A73-9A2C-127BB6DA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252D6-F8E7-49F9-9283-752B9DF8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F1FCA-3E3D-4FDD-A72C-12E98F68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5768C-8686-48D6-A63D-1FEC20E2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AA7DC-4CED-4431-A8A5-29F4C260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C555B-62C8-4FBF-AF19-4DEECF1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22176-04D6-4E33-9496-5E37348E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9766A-B2B8-4951-8468-91053CDE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59F85-CD8D-4895-AD7E-5C8D86CB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2AD33B-5A64-42BA-8B72-9E08EB7A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7A8C7D-7EE4-4DF7-8892-1FBAD423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C0F428-2332-41BD-A4EF-582CD3E4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CC7AD3-1FC8-4DF4-8ECD-7A133BC6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ABF31F-F91B-4E55-AD56-59530153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261586-CF7A-47E6-AF5D-2AAE8717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74D0D3-57A5-44C6-B54E-7F603E9D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CD4EFD-083A-4051-8BC7-FB1E954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11602C-8B7D-4477-B80F-4F0F6A5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28313E-85CC-49F2-92DE-3A8160C4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656AC6-3E86-4D0C-AB3F-78AD1251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8F9EA6-92A1-4FFE-A403-40DA4692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2951C-18E4-4E30-A708-15DFED54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2392E-5819-4BF9-9368-9F347342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5EDFD-E68D-47EF-8AE4-C22242A9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9C88E-17AA-4D4E-99A1-CE19C8E3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7D04A-7680-414A-A089-214B03D0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0E323-D012-4193-9526-13DB8990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4A403-370A-4020-A258-E54E2DF4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7DCCA-9D1A-40E7-A6BF-DE2413E0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382AA-F0FC-426B-BBD0-E54250A0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3B905-24C0-4301-81B9-0975B2ED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E912E-F8A3-441B-B419-42B73D80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B01D7-163B-46D4-B624-0124727A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AC2E8-EEC1-4603-A6E8-3A27AF28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42DD0-7D21-4CAA-96B2-0CD24DE9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44014-2C5A-4549-BBF9-012C6D64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DA9240-D3BA-4B81-A264-11877E37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C00E2-D009-494D-9B4E-53096AE9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44EE6-6EFE-4BA7-9363-24BBFD49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FBAAE-094E-4C5B-8647-8941951C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57593-5D42-4CC5-90DD-B6FCCF8D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301FC-AB5D-46AE-943D-902BED83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91CEB-4A63-4687-99E2-B2D0276D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0B06A-86F7-42C7-B6D6-0AE08563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5E1E4-F7FB-48AD-B312-53DF0F93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952EB-7547-4455-B34A-59240F46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AA187D-7128-4D29-B2B2-84D5BD46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AD15D-34D2-4494-9B03-4A5D3026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5D9E8-E8F1-4648-B8CB-8C4FC0B2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8672A-2787-4AF5-B659-2840040C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EE190-5896-40E2-9AAC-3606C1B9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08DF4-1F93-4D24-8263-6723E12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009-32E8-4DD3-BD05-B49E75A0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F9FCA-AA84-4751-9516-D6A4AB01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B4751-1A08-4276-85BC-D822EBE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E4BC56-1540-4586-8677-9556AD18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B26B5-0473-4CD3-9A57-49BBADBD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A19781-0679-44CD-AC1F-01C1D8AB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05C0F-9A3E-463F-9CE6-473D655D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E1E9A-EF4D-44CA-BE7E-FBF7B3DC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66C7F-AB06-470F-91B6-549B7291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4662B5-7599-414E-AC91-CB357458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B7070-4E03-4205-B85C-3ECC6FF5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FD96B1-F2B2-4C06-8F47-69366B0A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7EEE3-E936-46FF-B773-24021BFB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A6F7B-8BE2-4AD3-B022-24997175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E8232-9CF0-42B5-9EC4-56F6E96C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258E2F-7DB0-4305-9E56-F9AD7DD0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FD4802-7007-4DF7-9419-56BBC69E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BB28B-CC63-4F4A-AF1A-34898378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C467D-3E22-436C-B9D5-2196AFA7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A0D36-9608-448D-8B31-23AB12ED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E7064F-6769-4D9A-93B2-3BE30DF8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0FCF7-DA9A-4CC4-8FA8-024270D5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99C674-72BB-4727-966C-E8164F80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FB388-9F6A-4EA4-B9EC-E84646DB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5CDD5-9003-4F59-842E-4F839290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45626-D4EF-4393-8DFC-D25EEAA9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85C0A-96F4-49B5-8313-051DFE9E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D322C7-05F5-4B12-9F79-01A9B7A1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18C2E-4CDE-49ED-A5C7-8F81FFAB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9DA0B-BD1D-44D4-B4AC-B9785134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0C749-17D9-4FF9-BB0A-13EA1D24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8BD114-B279-49E9-9BD9-47D02AC6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87509-24FB-4DBB-92B7-2794BBF9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7D935-BC3F-4C04-BE1B-D023A5E1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CA140-147C-4624-AE57-79CB44E8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A102B-71B8-48FE-B4AC-EC333C99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E894B-2CC6-4644-89FE-B2A9BD64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6872A-0686-4971-84FE-72F7349D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2DC0E-3FF0-482D-A3B1-6437EC53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E7BBF0-5987-4BCE-A348-09A8C371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65B8A0-1C6A-4B51-972C-43EE8891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D22C6E-9CD3-4525-9B5B-5789B8D6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A8D307-9A63-4926-8F38-97347A3A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C3A763-860D-419E-92DD-8F183AE6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3736D-CDC8-4148-B2D9-0E42C2D1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7EF2E-CE88-4AB1-9DE5-6FC53217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76F513-5A9A-4C83-8642-3495CBFD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5E3FA-7FC8-445B-AECA-494B6B49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20208-3334-45BB-B37B-C768935C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966395-C977-484D-9933-3FEA97D8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7363CE-E431-4991-BAB5-034474B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C11C1-259E-47C8-AE06-D63465BC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09C963-7590-43EF-B2E9-BBB74E16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61954-46F5-45D3-9928-B3A0FCCD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3EC49-738C-4DBB-9BD3-4851006E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1B8A5D-3D63-45D7-8077-119F27D0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5912D-A915-460A-8E24-B775DA43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7B0AF-2EA0-43D7-9B5A-FFEF6549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E1136-9489-438D-843E-C2D9EAB3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E1925-3591-44D9-8DC4-3BCC580C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4DACB-7C00-4675-A4BB-78DD9C94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504463-EB69-49AD-A468-A2941E41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CB1B7-C98F-4826-AE64-C4E1E75D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12D0DD-68B0-424E-8F22-364D3F0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17B4AD-5226-4727-9DB3-0676F8A1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ECC4A-B9AE-4231-99D3-4D128563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A20100-C440-47EF-8744-B48FA2F1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E39F4F-7973-47A1-9CF4-EE267CC4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16E76-6D15-4728-ACDA-8F1670B2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2E329-E735-4DAD-B509-33B4E4AF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299A7-CC0D-4876-8EAB-010DBDBD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109-8E06-4BA1-8FC4-7E290541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2397E-FE12-4514-9380-6B22B2D9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F6FBA-B6B0-4F63-9E6C-7C6DC9B3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4D179-D13E-49B9-8CD8-F456CA9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17194-FB94-45F8-8CB1-E9958C65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6D675-E19E-4BCD-932F-645FA47A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C9F02-697F-4175-A32C-41F4FDD1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B2361-5694-44AC-A3DB-71F28726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E1092-041B-4F51-8032-ADFA0552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FF13A-1FCD-425B-B532-DB73BB10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DB255-7F67-4FB9-A224-A2C744EA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20B-1A2D-42C0-B3FC-32CD8583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242C1-1254-4245-B996-D216013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B3DF1-B31F-4722-B6D3-BF309C02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C6824-2189-4614-88DD-15546AC3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A0B78-35A7-4441-BA68-1D46B933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A1E36-5B79-4A90-9E6C-13EA592A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9D943-CE35-4EC9-A399-4FD87B05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521C8-AE6C-4E60-A5B4-C9D4D19B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0CB1B-D77E-4A99-B027-3741B553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D789B-25F5-4C8C-B1C6-32277A97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162-39AB-46DE-9EE0-98B6C3C7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F62-D3F4-4926-B6CD-E7E51B81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735275-05A8-4B18-998C-DA43013D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7D8072-902A-4E80-B9F8-98B99154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2E81ED-3FCA-40C5-B032-916A0D06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84BA14-FAD8-4BBD-85EE-8B685B1E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65ADEC-41F3-4BD9-A463-2D3094C3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B1693C-5300-4935-ADFB-91420DB4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C237BD-EBF6-4A79-B988-4E2572F9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907406-17DD-4981-B378-D4F9D1B9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7DAE14-16CF-46CF-91F3-6A84E7FA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7E3-CE96-4D95-AD3F-9D845FD4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24346C-18F8-4783-A181-B6454F88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79C0B3-9E53-494C-8897-171F2600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F28BB5-BF33-4B0A-9075-2CE909BE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C198E7-BEC2-4398-80C5-0C5A01F1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362DC0-071A-4F47-84F7-84DC162E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A720C6-5BCD-4313-808D-7CD6B0F1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1507B2-56B0-4A64-9BF6-4CB6083D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07F7CE-3485-421C-90DD-64F63CAD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1870F2-89F5-4F1D-9DC2-5D685F7D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2D533C-80B1-4B62-9754-F3814D6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A54-101E-46CA-939B-374B091C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7745A3-E686-40D4-8FD7-081A1FE6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762BA3-A7A6-4887-87DD-A948151D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FB4338-D229-4B44-A90D-FD62FE66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932039-5B8C-4BFB-B3F5-2FA04939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8BE027-DE79-4635-8ECE-6E46D96A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AFBF0E-2DA3-4476-83E3-4544A733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AA5D00-985D-4D3F-BD03-2BD4CAC3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1D04F1-4C14-4714-92D8-6E464DD9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C7E5A9-9CDE-4D9B-9CEE-EE7FE01A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4D8C22-A3D1-4581-B9AE-1BC09EEC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E66-C6D5-4524-B7CC-822258F6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229C96-70D7-41A1-A91E-6B44C796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59F32-D6B3-4D95-9210-CC11E051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66D000-53E3-4C26-9D8B-4B7CA3C5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38E5E5-73DF-4F4D-9646-47A9D33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090911-5D38-4EE4-8A8A-3486DA73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725F9E-45AD-4399-B88D-CDDD8908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32533B-3E11-44B5-9262-0BA2546A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ECB4B-E531-4E07-9C71-8AD2C6EC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EB57C-5462-4887-9D3C-5682ECFA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9431C-B050-40C5-811D-EFE18890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876-A932-434F-819A-D4F39E495B6B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2C54-3277-4E15-8CA3-7725E30DB2AF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968A-43B7-4524-B66E-C07DFBD840F3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3B84-803F-4289-B240-67AA687A31EB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EAE9-C63D-42F7-8B9F-6377358E3C97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7d7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D7BB-2995-4330-8304-855A5E32EBFB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7d7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29A1-ACED-4B01-9D3D-42F74B58AA9B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5FF2-617F-41EB-B134-233741BE90AD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84B5-C77B-4EFF-87C3-3B9D669787EA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7d7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C4A6-E44F-4C7E-9A10-656A376E759B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1ab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07F0-BE92-414C-B4F7-307AA4B24A5B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7454-238A-42BF-8FAD-91F20CE56115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6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6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6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62AB-2B63-4BD2-86BF-C5D36DB32430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A132-4229-4181-9528-824039EE7111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8CDD-D80A-4E4C-957D-D04D58F8009C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CAA9-37A5-424B-A0DB-4C014F795A47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DA14-CB44-4643-A7F4-B700097F7FB9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5C9B-73E4-4369-908B-7ED19576D450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EA7D-06C5-43F1-9BA8-701021253D24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7fd13b"/>
                </a:solidFill>
                <a:latin typeface="Rockwell"/>
              </a:rPr>
              <a:t>Multimedia Presentations</a:t>
            </a:r>
            <a:endParaRPr b="0" lang="en-US" sz="25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Microsoft PowerPoint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Tex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ullet points/Numbering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numbered for order/step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ullets equal importan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91" name="Picture 2" descr="http://2.bp.blogspot.com/_jDq3yv0hxKk/TCDhsEdzf2I/AAAAAAAAABU/nf7FR1bvgag/s1600/Bullet+Points.png"/>
          <p:cNvPicPr/>
          <p:nvPr/>
        </p:nvPicPr>
        <p:blipFill>
          <a:blip r:embed="rId1"/>
          <a:stretch/>
        </p:blipFill>
        <p:spPr>
          <a:xfrm>
            <a:off x="4500720" y="3786120"/>
            <a:ext cx="3904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Colour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onsisten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6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Message and audien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6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Feel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warm (oranges/reds)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cool (greens/blues)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6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General rule: KIS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94" name="Picture 5" descr="MPj04387710000[1]"/>
          <p:cNvPicPr/>
          <p:nvPr/>
        </p:nvPicPr>
        <p:blipFill>
          <a:blip r:embed="rId1"/>
          <a:stretch/>
        </p:blipFill>
        <p:spPr>
          <a:xfrm>
            <a:off x="5786280" y="2428920"/>
            <a:ext cx="27766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Sights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omplement/enhan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audience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include images, charts, shapes, lines, transitions, animation effect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principles of graphic design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571680" y="4929120"/>
          <a:ext cx="6095880" cy="11127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oftware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icrosoft Power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Word Proce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Corel Word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Sound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Sound byte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Typewriter (text)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amera shutter (sound effects)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Voice recording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ackground music (CD)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00" name="Picture 2" descr="http://www.idancerecords.com/images/SOUND%20EFFECTS.gif"/>
          <p:cNvPicPr/>
          <p:nvPr/>
        </p:nvPicPr>
        <p:blipFill>
          <a:blip r:embed="rId1"/>
          <a:stretch/>
        </p:blipFill>
        <p:spPr>
          <a:xfrm>
            <a:off x="5357880" y="4000680"/>
            <a:ext cx="3362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Sound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KISS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less is mor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nhance messag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Delivery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ells and whistles – take away from presentation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03" name="Picture 2" descr="http://www.lostonwallace.com/kaboomvariant1.jpg"/>
          <p:cNvPicPr/>
          <p:nvPr/>
        </p:nvPicPr>
        <p:blipFill>
          <a:blip r:embed="rId1"/>
          <a:stretch/>
        </p:blipFill>
        <p:spPr>
          <a:xfrm>
            <a:off x="4214880" y="1357200"/>
            <a:ext cx="37004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Avoid death by cheese…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52440" y="201780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Weird sound effects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Most transitions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Flying text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Strange animations 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Bad clip-art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06" name="Picture 4" descr=""/>
          <p:cNvPicPr/>
          <p:nvPr/>
        </p:nvPicPr>
        <p:blipFill>
          <a:blip r:embed="rId1"/>
          <a:stretch/>
        </p:blipFill>
        <p:spPr>
          <a:xfrm>
            <a:off x="5943600" y="3048120"/>
            <a:ext cx="2971800" cy="1751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5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1600200" cy="15382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6" descr=""/>
          <p:cNvPicPr/>
          <p:nvPr/>
        </p:nvPicPr>
        <p:blipFill>
          <a:blip r:embed="rId3"/>
          <a:stretch/>
        </p:blipFill>
        <p:spPr>
          <a:xfrm>
            <a:off x="4114800" y="4800600"/>
            <a:ext cx="19540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Delivery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e prepared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Know your audien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Practice, practice, practi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Face your audien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Do NOT read slides - guid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11" name="Picture 4" descr="http://engg.entrancecorner.com/images/stories/practice%20perfect.jpg"/>
          <p:cNvPicPr/>
          <p:nvPr/>
        </p:nvPicPr>
        <p:blipFill>
          <a:blip r:embed="rId1"/>
          <a:stretch/>
        </p:blipFill>
        <p:spPr>
          <a:xfrm>
            <a:off x="5643720" y="2286000"/>
            <a:ext cx="3046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Delivery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Distracting behaviour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e early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e organized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ye Contac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14" name="Picture 2" descr="http://gregweatherdon.com/wp-content/uploads/2011/10/Man-running-clock.jpg"/>
          <p:cNvPicPr/>
          <p:nvPr/>
        </p:nvPicPr>
        <p:blipFill>
          <a:blip r:embed="rId1"/>
          <a:stretch/>
        </p:blipFill>
        <p:spPr>
          <a:xfrm>
            <a:off x="857160" y="4572000"/>
            <a:ext cx="2500560" cy="1662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4" descr="http://www.graphictivitis.com/wp-content/uploads/2011/08/3-eye-contact-with-the-audience.jpg"/>
          <p:cNvPicPr/>
          <p:nvPr/>
        </p:nvPicPr>
        <p:blipFill>
          <a:blip r:embed="rId2"/>
          <a:stretch/>
        </p:blipFill>
        <p:spPr>
          <a:xfrm>
            <a:off x="3929040" y="2928960"/>
            <a:ext cx="4822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Multimedia Presentation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98240" y="1986120"/>
            <a:ext cx="756900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95959"/>
                </a:solidFill>
                <a:latin typeface="Rockwell"/>
              </a:rPr>
              <a:t>Can incorporate elements from all communication media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62" name="Content Placeholder 3" descr=""/>
          <p:cNvPicPr/>
          <p:nvPr/>
        </p:nvPicPr>
        <p:blipFill>
          <a:blip r:embed="rId1"/>
          <a:stretch/>
        </p:blipFill>
        <p:spPr>
          <a:xfrm>
            <a:off x="500040" y="3078000"/>
            <a:ext cx="75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Effective Presentation Components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595959"/>
                </a:solidFill>
                <a:latin typeface="Rockwell"/>
              </a:rPr>
              <a:t>The Content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595959"/>
                </a:solidFill>
                <a:latin typeface="Rockwell"/>
              </a:rPr>
              <a:t>The Design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595959"/>
                </a:solidFill>
                <a:latin typeface="Rockwell"/>
              </a:rPr>
              <a:t>The Delivery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65" name="Picture 2" descr="http://www.freevector.com/site_media/preview_images/FreeVector-Presentation.jpg"/>
          <p:cNvPicPr/>
          <p:nvPr/>
        </p:nvPicPr>
        <p:blipFill>
          <a:blip r:embed="rId1"/>
          <a:stretch/>
        </p:blipFill>
        <p:spPr>
          <a:xfrm>
            <a:off x="4857840" y="2000160"/>
            <a:ext cx="3122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Content – Most Importan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157a"/>
                </a:solidFill>
                <a:latin typeface="Rockwell"/>
              </a:rPr>
              <a:t>Purpose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Inform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Persuad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ntertain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157a"/>
                </a:solidFill>
                <a:latin typeface="Rockwell"/>
              </a:rPr>
              <a:t>Audience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Peer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Manager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ommunity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Action Required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69" name="Picture 2" descr="http://www.essentialskillsthatwork.com/upload%5C15_services.jpg"/>
          <p:cNvPicPr/>
          <p:nvPr/>
        </p:nvPicPr>
        <p:blipFill>
          <a:blip r:embed="rId1"/>
          <a:stretch/>
        </p:blipFill>
        <p:spPr>
          <a:xfrm>
            <a:off x="7286760" y="214200"/>
            <a:ext cx="15732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Conten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ea157a"/>
                </a:solidFill>
                <a:latin typeface="Rockwell"/>
              </a:rPr>
              <a:t>Research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95959"/>
                </a:solidFill>
                <a:latin typeface="Rockwell"/>
              </a:rPr>
              <a:t>Knowledg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95959"/>
                </a:solidFill>
                <a:latin typeface="Rockwell"/>
              </a:rPr>
              <a:t>Variety of Source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ea157a"/>
                </a:solidFill>
                <a:latin typeface="Rockwell"/>
              </a:rPr>
              <a:t>Organize and Plan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72" name="Picture 2" descr="http://cs.ucsb.edu/~xiaohanzhao/Research%20Projects_files/Research.jpg"/>
          <p:cNvPicPr/>
          <p:nvPr/>
        </p:nvPicPr>
        <p:blipFill>
          <a:blip r:embed="rId1"/>
          <a:stretch/>
        </p:blipFill>
        <p:spPr>
          <a:xfrm>
            <a:off x="4786200" y="214308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Rockwell"/>
              </a:rPr>
              <a:t>Text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Rockwell"/>
              </a:rPr>
              <a:t>Colour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Rockwell"/>
              </a:rPr>
              <a:t>Sights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Rockwell"/>
              </a:rPr>
              <a:t>Sound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6" name="WordArt 6"/>
          <p:cNvSpPr txBox="1"/>
          <p:nvPr/>
        </p:nvSpPr>
        <p:spPr>
          <a:xfrm>
            <a:off x="714240" y="300024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Eras Light ITC"/>
              </a:rPr>
              <a:t>Text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Eras Light ITC"/>
              <a:ea typeface="Eras Light ITC"/>
            </a:endParaRPr>
          </a:p>
        </p:txBody>
      </p:sp>
      <p:pic>
        <p:nvPicPr>
          <p:cNvPr id="977" name="Picture 8" descr="j0173997"/>
          <p:cNvPicPr/>
          <p:nvPr/>
        </p:nvPicPr>
        <p:blipFill>
          <a:blip r:embed="rId1"/>
          <a:stretch/>
        </p:blipFill>
        <p:spPr>
          <a:xfrm>
            <a:off x="4643280" y="2786040"/>
            <a:ext cx="1600200" cy="1219320"/>
          </a:xfrm>
          <a:prstGeom prst="rect">
            <a:avLst/>
          </a:prstGeom>
          <a:ln w="0">
            <a:noFill/>
          </a:ln>
        </p:spPr>
      </p:pic>
      <p:sp>
        <p:nvSpPr>
          <p:cNvPr id="978" name="Text Box 10"/>
          <p:cNvSpPr/>
          <p:nvPr/>
        </p:nvSpPr>
        <p:spPr>
          <a:xfrm>
            <a:off x="4114800" y="22096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Picture 11" descr="j0283640"/>
          <p:cNvPicPr/>
          <p:nvPr/>
        </p:nvPicPr>
        <p:blipFill>
          <a:blip r:embed="rId2"/>
          <a:stretch/>
        </p:blipFill>
        <p:spPr>
          <a:xfrm>
            <a:off x="4786200" y="4786200"/>
            <a:ext cx="1676520" cy="11430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2" descr="j0285269"/>
          <p:cNvPicPr/>
          <p:nvPr/>
        </p:nvPicPr>
        <p:blipFill>
          <a:blip r:embed="rId3"/>
          <a:stretch/>
        </p:blipFill>
        <p:spPr>
          <a:xfrm>
            <a:off x="785880" y="4714920"/>
            <a:ext cx="14475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Tex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Key points only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less is mor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point form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avoid abbreviations or acronym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Tex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Font appearance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one or two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old/</a:t>
            </a:r>
            <a:r>
              <a:rPr b="0" i="1" lang="en-US" sz="2800" spc="-1" strike="noStrike">
                <a:solidFill>
                  <a:srgbClr val="595959"/>
                </a:solidFill>
                <a:latin typeface="Rockwell"/>
              </a:rPr>
              <a:t>Italics</a:t>
            </a: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/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Rockwell"/>
              </a:rPr>
              <a:t>Underlined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used for emphasi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85" name="Picture 2" descr="http://www.unselfishblowout.com/KillerText/images/fonts.gif"/>
          <p:cNvPicPr/>
          <p:nvPr/>
        </p:nvPicPr>
        <p:blipFill>
          <a:blip r:embed="rId1"/>
          <a:stretch/>
        </p:blipFill>
        <p:spPr>
          <a:xfrm>
            <a:off x="5000760" y="3786120"/>
            <a:ext cx="32144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Tex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Font size (22-48)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ody minimum – 20 poin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headings larger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sans-serif recommended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6 by 6 rul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88" name="Picture 2" descr="http://o5.com/wp-content/uploads/2010/11/presentation-skills.jpg"/>
          <p:cNvPicPr/>
          <p:nvPr/>
        </p:nvPicPr>
        <p:blipFill>
          <a:blip r:embed="rId1"/>
          <a:stretch/>
        </p:blipFill>
        <p:spPr>
          <a:xfrm>
            <a:off x="5357880" y="307188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2:22:45Z</dcterms:created>
  <dc:creator>Mary</dc:creator>
  <dc:description/>
  <dc:language>en-US</dc:language>
  <cp:lastModifiedBy>OCDSB</cp:lastModifiedBy>
  <dcterms:modified xsi:type="dcterms:W3CDTF">2015-10-29T15:58:55Z</dcterms:modified>
  <cp:revision>16</cp:revision>
  <dc:subject/>
  <dc:title>Multimedia Presentations</dc:title>
</cp:coreProperties>
</file>